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D86-C2FB-422B-AA47-55C2F278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99D-7403-4B0A-A10C-41481ED7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1B5-82CC-4671-A5D9-EF8887E0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4996-26BF-4ECA-B9B3-80DED289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681C-A315-4127-A358-B2CC4E2E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97F2-6C94-4AAD-AC96-B42E3CFE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BCF-BE1B-4EF7-8BFF-873A672C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ACA-C533-4BE7-B236-0738553E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BDE-22EB-4CBA-8EEC-692DB657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3AD5-8AE3-41D0-98A4-C9A7C4FF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C62-98D1-4CDA-99E8-A7C7908F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21E-EC5B-48CE-85CE-9CE573C9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033E-6597-4382-AFD9-C5E1B1755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209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a better shooter short or tall peop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8320" y="3581280"/>
            <a:ext cx="3111480" cy="2387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24001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edict that short people are better shooter than tall. Because shorter people shoot more than t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ketb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short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tall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mater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south gy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&amp; 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was right. It said that short people are better than tall when it comes to shooting hoops. I think it is because short people shoot the threes and tall people stay down low.  Tall people really don’t come from down low to shoot a three. Short people don’t shoot the most but they can make more points if they drain thre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Variable – tall or short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Variable – how many shots you ma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Variable – I made them shoot at the block , free through, and three poin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4:36:13Z</dcterms:created>
  <dc:creator>STERLING  USD376</dc:creator>
  <dc:description/>
  <dc:language>en-US</dc:language>
  <cp:lastModifiedBy>Murphy-Dell</cp:lastModifiedBy>
  <dcterms:modified xsi:type="dcterms:W3CDTF">2011-03-21T01:37:03Z</dcterms:modified>
  <cp:revision>2</cp:revision>
  <dc:subject/>
  <dc:title>Problem </dc:title>
</cp:coreProperties>
</file>